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BE2-0B49-4F99-A201-145A826E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CC4-DD24-416E-A196-DE3AC972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3C6-CCE9-4B6C-A6A4-5DCDD59B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225-8C24-42E0-AE45-53BC7B9B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3DE-A457-4127-803C-E0A78626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615-678E-44AA-9A6C-23AEBEB8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1F8-F237-4FA4-B3FF-12BA7496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FA9-9468-4DF0-AA24-5452F19B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F10-33F3-4B63-9ABD-8954D2A6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B50-2C0B-45F1-BCE5-3D1EF620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94F-A644-4F1A-BA8D-A153436F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3E8-2729-43AF-86AA-A31726D2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578E-8B15-4761-A721-4920A4020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 cartographie d’aujourd’h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ésenté pa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éon BOU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aphaël TAV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lan de l’ex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I- Comment représenter la Terre, sphérique, sur un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surface plan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) Différents types de proj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) Avantages et inconvén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II- Présentation du G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) Défi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) Principe de fonction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III- Le radiomè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) Prés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) Vue du lycée avec un radiomè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I- Comment représenter une sphère sur une surface pl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out d’abord, il faut savoir que la cartographie a pour but la représentation d’une planète sur une surface plane. C’est à la fois une science, un art et une techn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Une projection est un ensemble de techniques. Voici plusieurs types de projections cartographiques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1400" spc="-1" strike="noStrike" u="sng">
                <a:solidFill>
                  <a:srgbClr val="000000"/>
                </a:solidFill>
                <a:uFillTx/>
                <a:latin typeface="Arial"/>
              </a:rPr>
              <a:t>-La projection conique de Lambert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: c’est une projection qui conserve les angles. Les méridiens sont des droites convergeant toutes vers le centre S de projection, sommet du cône. Les parallèles sont des arcs de cercle de centre 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fin de conserver les angles, cette proj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ltère les distances, c’est-à-dire la 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éparant les parallèles est augmentée en te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mpte de l’éloignement par rapport au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arallèles de 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56000" y="3213000"/>
            <a:ext cx="40957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400" spc="-1" strike="noStrike" u="sng">
                <a:solidFill>
                  <a:srgbClr val="000000"/>
                </a:solidFill>
                <a:uFillTx/>
                <a:latin typeface="Arial"/>
              </a:rPr>
              <a:t>- La projection cylindrique de Mercator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: Les méridiens sont des droites parallèles entre elles, et les parallèles sont des droites perpendiculaires aux méridi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En revanche, la proj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ylindrique augmente cert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uperficies. Par exemple, 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Groënland, qui est 9 fois p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etit que l’Amérique du Sud 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ci plus grand que ce conti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08360" y="1268280"/>
            <a:ext cx="51436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es avantages et les inconvén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Arial"/>
              </a:rPr>
              <a:t>Avantag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-Cylindrique : permet de représenter la Terre sur une surface rectangulaire ; est très utilisée dans les manuels scol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-Conique : les angles sont conservés entre les méridiens et les parallè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Arial"/>
              </a:rPr>
              <a:t>Inconvénie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-Cylindrique : les régions sont de plus en plus étirées en se rapprochant des pôles car toutes les parallèles doivent être ég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-Conique : les régions sont étirées en s’éloignant du centre de convergeances. Les parallèles sont courbé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II- Le GPS (Global Positioning Syst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’est un système de géolocalisation fonctionnant au niveau mon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Le Gps fonctionne grâce au calcul de la distance qui sépare un récepteur GPS et plusieurs satellites. Il envoie des ondes éléctro-magnétiques se propageant à la vitesse de la lumière. On en déduit la distance par le temps de propagation de l’o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On sait que : distance = temps*vit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onc dans ce cas : distance = temps*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Exemple: Si le temps de propagation 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e 0.4 secondes, alors la somme 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istances entre l’émeteur GPS et 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atellite puis la distance entre 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atellite et le récepteur GPS (voitu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ra égale à : 0.4 * 299 792 4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àd à : 19916983m = 19916,983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387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II- Le radiomè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Le radiomètre est un appareil qui permet de mesurer la réfléctance des milieux par différents types de lumière (rouge, vert, infra-rouge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00360" y="2421000"/>
            <a:ext cx="32860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Vue du LFCL avec un radiomè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839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15:32:22Z</dcterms:created>
  <dc:creator>Leon</dc:creator>
  <dc:description/>
  <dc:language>en-US</dc:language>
  <cp:lastModifiedBy>Leon</cp:lastModifiedBy>
  <dcterms:modified xsi:type="dcterms:W3CDTF">2010-12-11T16:51:47Z</dcterms:modified>
  <cp:revision>2</cp:revision>
  <dc:subject/>
  <dc:title>La cartographie d’aujourd’hui</dc:title>
</cp:coreProperties>
</file>