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D24-593B-4383-B509-14731336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4ED-6E89-41FE-ABAB-3B001956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140-751F-4606-9511-C19821B7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F17-6A48-47D2-B41B-6FF708BA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4DA-6C20-4B3F-87F8-A9FCD910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F96-F363-4DF7-AAFB-DA414581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466-5FB6-4C9B-B069-ACEC0E7A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0B3-A5C4-496F-96FD-84306862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B1C-49B7-4709-8DC0-198FAD0A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C65-F5E1-41D2-A2DA-3FC2D01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D47-43B9-4788-BD39-EE909A5A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CC5-7A7D-4329-9C97-F638823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8AB4-E3C1-4D85-BA98-4E06E2E76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414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artographie d’H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Thomas Godfrey (1704 – 174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My Documents\ALEX\2nde\MPS\thomas_godfrey.jpg"/>
          <p:cNvPicPr/>
          <p:nvPr/>
        </p:nvPicPr>
        <p:blipFill>
          <a:blip r:embed="rId2"/>
          <a:stretch/>
        </p:blipFill>
        <p:spPr>
          <a:xfrm>
            <a:off x="2938320" y="1628640"/>
            <a:ext cx="3267360" cy="454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Comment fonctionne-t-i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http://en.wikipedia.org/wiki/File:Using_sextant_swing.g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My Documents\ALEX\2nde\MPS\SCHÉMA SEXTANT.gif"/>
          <p:cNvPicPr/>
          <p:nvPr/>
        </p:nvPicPr>
        <p:blipFill>
          <a:blip r:embed="rId1"/>
          <a:stretch/>
        </p:blipFill>
        <p:spPr>
          <a:xfrm>
            <a:off x="2050920" y="1450800"/>
            <a:ext cx="5257800" cy="395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2492280"/>
            <a:ext cx="8289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IV) Activités expérimenta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A) Détermination de la Latitude de Lisbon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640" y="24922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&gt;  Démonstration de la formule de la latit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oneTexte 4"/>
          <p:cNvSpPr/>
          <p:nvPr/>
        </p:nvSpPr>
        <p:spPr>
          <a:xfrm>
            <a:off x="1187280" y="400536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) Détermination de la hauteur du bâti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2565000"/>
            <a:ext cx="8351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Calibri"/>
              </a:rPr>
              <a:t>I) La mesure de la circonférence de la ter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Eratosthène (-276/-1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:\My Documents\ALEX\2nde\MPS\Erastosthène.jpg"/>
          <p:cNvPicPr/>
          <p:nvPr/>
        </p:nvPicPr>
        <p:blipFill>
          <a:blip r:embed="rId2"/>
          <a:stretch/>
        </p:blipFill>
        <p:spPr>
          <a:xfrm>
            <a:off x="2556000" y="1197000"/>
            <a:ext cx="4248000" cy="421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My Documents\ALEX\2nde\MPS\MORT ERATOSTHÈNE.jpg"/>
          <p:cNvPicPr/>
          <p:nvPr/>
        </p:nvPicPr>
        <p:blipFill>
          <a:blip r:embed="rId3"/>
          <a:stretch/>
        </p:blipFill>
        <p:spPr>
          <a:xfrm>
            <a:off x="4140360" y="3860640"/>
            <a:ext cx="4429080" cy="2762280"/>
          </a:xfrm>
          <a:prstGeom prst="rect">
            <a:avLst/>
          </a:prstGeom>
          <a:ln w="0">
            <a:noFill/>
          </a:ln>
        </p:spPr>
      </p:pic>
      <p:pic>
        <p:nvPicPr>
          <p:cNvPr id="48" name="Espace réservé du contenu 8" descr="Image1.png"/>
          <p:cNvPicPr/>
          <p:nvPr/>
        </p:nvPicPr>
        <p:blipFill>
          <a:blip r:embed="rId4"/>
          <a:stretch/>
        </p:blipFill>
        <p:spPr>
          <a:xfrm>
            <a:off x="4067280" y="1268280"/>
            <a:ext cx="4924440" cy="24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3691E-006 L -0.25 -2.13691E-006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Mesure de la circonférence de la ter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D:\My Documents\ALEX\2nde\MPS\schema1.jpg"/>
          <p:cNvPicPr/>
          <p:nvPr/>
        </p:nvPicPr>
        <p:blipFill>
          <a:blip r:embed="rId1"/>
          <a:stretch/>
        </p:blipFill>
        <p:spPr>
          <a:xfrm>
            <a:off x="1397160" y="1484280"/>
            <a:ext cx="634968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Mesure de la circonférence de la ter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My Documents\ALEX\2nde\MPS\schema circonférence terre.jpg"/>
          <p:cNvPicPr/>
          <p:nvPr/>
        </p:nvPicPr>
        <p:blipFill>
          <a:blip r:embed="rId1"/>
          <a:stretch/>
        </p:blipFill>
        <p:spPr>
          <a:xfrm>
            <a:off x="1547640" y="1703520"/>
            <a:ext cx="6048720" cy="4532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32000" y="2492280"/>
            <a:ext cx="3456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Calibri"/>
              </a:rPr>
              <a:t>II) Le mèt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2.bp.blogspot.com/_De9Pw0JMDCA/S8tCkqjyFCI/AAAAAAAAAow/ef_2_-zQssc/s1600/Project3.jpg"/>
          <p:cNvPicPr/>
          <p:nvPr/>
        </p:nvPicPr>
        <p:blipFill>
          <a:blip r:embed="rId2"/>
          <a:stretch/>
        </p:blipFill>
        <p:spPr>
          <a:xfrm>
            <a:off x="826920" y="1916280"/>
            <a:ext cx="4392720" cy="42764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4"/>
          <p:cNvSpPr/>
          <p:nvPr/>
        </p:nvSpPr>
        <p:spPr>
          <a:xfrm>
            <a:off x="5796000" y="292428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arcus Vitruvius Poll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8529E-007 L 2.77778E-007 -0.29371 E">
                                      <p:cBhvr>
                                        <p:cTn id="2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2920" y="2924280"/>
            <a:ext cx="39610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sidonius d’Apamée (-135/-5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upload.wikimedia.org/wikipedia/commons/thumb/6/64/Posidonio_de_Apamea.jpg/200px-Posidonio_de_Apamea.jpg"/>
          <p:cNvPicPr/>
          <p:nvPr/>
        </p:nvPicPr>
        <p:blipFill>
          <a:blip r:embed="rId2"/>
          <a:stretch/>
        </p:blipFill>
        <p:spPr>
          <a:xfrm>
            <a:off x="1187280" y="1125360"/>
            <a:ext cx="3106800" cy="47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III) Le sex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My Documents\ALEX\2nde\MPS\Sextant.jpg"/>
          <p:cNvPicPr/>
          <p:nvPr/>
        </p:nvPicPr>
        <p:blipFill>
          <a:blip r:embed="rId2"/>
          <a:stretch/>
        </p:blipFill>
        <p:spPr>
          <a:xfrm>
            <a:off x="1262160" y="1341360"/>
            <a:ext cx="661968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John Hadley (1682 – 174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My Documents\ALEX\2nde\MPS\john_hadley.jpg"/>
          <p:cNvPicPr/>
          <p:nvPr/>
        </p:nvPicPr>
        <p:blipFill>
          <a:blip r:embed="rId2"/>
          <a:stretch/>
        </p:blipFill>
        <p:spPr>
          <a:xfrm>
            <a:off x="2592360" y="1557360"/>
            <a:ext cx="39592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09:30:41Z</dcterms:created>
  <dc:creator>Alex</dc:creator>
  <dc:description/>
  <dc:language>en-US</dc:language>
  <cp:lastModifiedBy>Alex</cp:lastModifiedBy>
  <dcterms:modified xsi:type="dcterms:W3CDTF">2012-01-14T16:38:20Z</dcterms:modified>
  <cp:revision>19</cp:revision>
  <dc:subject/>
  <dc:title>Cartographie d’Hier</dc:title>
</cp:coreProperties>
</file>