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231-2D4F-4372-8F34-6640CEA3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A9A-DA44-41B4-9940-21B9E39D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1FB-0E36-4076-8305-63607515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7ED-0893-498C-8DEE-B7D1D8D8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EAB-7783-480D-A8CF-AAFBFA9D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EC6-7058-484B-9CBE-DCAC9CBE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0A9-2477-4A19-B7BA-2A94DD15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F9F-178D-4868-BB9D-B683DA7F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CEB-7D04-4E08-81ED-E1CFA4A1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10E-1AB0-47C6-BDD2-E55DD0C6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B86C-0F7B-4207-8E6E-4333FEE4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5AA-BDA5-45D3-A3BF-752FFADC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B0AB-605D-465F-96DB-872CDD5524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5414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artographie d’H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Thomas Godfrey (1704 – 174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D:\My Documents\ALEX\2nde\MPS\thomas_godfrey.jpg"/>
          <p:cNvPicPr/>
          <p:nvPr/>
        </p:nvPicPr>
        <p:blipFill>
          <a:blip r:embed="rId2"/>
          <a:stretch/>
        </p:blipFill>
        <p:spPr>
          <a:xfrm>
            <a:off x="2938320" y="1628640"/>
            <a:ext cx="3267360" cy="4542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Comment fonctionne-t-il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http://en.wikipedia.org/wiki/File:Using_sextant_swing.g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D:\My Documents\ALEX\2nde\MPS\SCHÉMA SEXTANT.gif"/>
          <p:cNvPicPr/>
          <p:nvPr/>
        </p:nvPicPr>
        <p:blipFill>
          <a:blip r:embed="rId1"/>
          <a:stretch/>
        </p:blipFill>
        <p:spPr>
          <a:xfrm>
            <a:off x="2050920" y="1450800"/>
            <a:ext cx="5257800" cy="3956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2492280"/>
            <a:ext cx="8289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IV) Activités expérimenta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A) Détermination de la Latitude de Lisbon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640" y="249228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&gt;  Démonstration de la formule de la latit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oneTexte 4"/>
          <p:cNvSpPr/>
          <p:nvPr/>
        </p:nvSpPr>
        <p:spPr>
          <a:xfrm>
            <a:off x="1187280" y="4005360"/>
            <a:ext cx="70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B) Détermination de la hauteur du bâti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3640" y="2565000"/>
            <a:ext cx="8351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Calibri"/>
              </a:rPr>
              <a:t>I) La mesure de la circonférence de la ter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Eratosthène (-276/-19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D:\My Documents\ALEX\2nde\MPS\Erastosthène.jpg"/>
          <p:cNvPicPr/>
          <p:nvPr/>
        </p:nvPicPr>
        <p:blipFill>
          <a:blip r:embed="rId2"/>
          <a:stretch/>
        </p:blipFill>
        <p:spPr>
          <a:xfrm>
            <a:off x="2556000" y="1197000"/>
            <a:ext cx="4248000" cy="421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D:\My Documents\ALEX\2nde\MPS\MORT ERATOSTHÈNE.jpg"/>
          <p:cNvPicPr/>
          <p:nvPr/>
        </p:nvPicPr>
        <p:blipFill>
          <a:blip r:embed="rId3"/>
          <a:stretch/>
        </p:blipFill>
        <p:spPr>
          <a:xfrm>
            <a:off x="4140360" y="3860640"/>
            <a:ext cx="4429080" cy="2762280"/>
          </a:xfrm>
          <a:prstGeom prst="rect">
            <a:avLst/>
          </a:prstGeom>
          <a:ln w="0">
            <a:noFill/>
          </a:ln>
        </p:spPr>
      </p:pic>
      <p:pic>
        <p:nvPicPr>
          <p:cNvPr id="48" name="Espace réservé du contenu 8" descr="Image1.png"/>
          <p:cNvPicPr/>
          <p:nvPr/>
        </p:nvPicPr>
        <p:blipFill>
          <a:blip r:embed="rId4"/>
          <a:stretch/>
        </p:blipFill>
        <p:spPr>
          <a:xfrm>
            <a:off x="4067280" y="1268280"/>
            <a:ext cx="4924440" cy="24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13691E-006 L -0.25 -2.13691E-006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Mesure de la circonférence de la ter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D:\My Documents\ALEX\2nde\MPS\schema1.jpg"/>
          <p:cNvPicPr/>
          <p:nvPr/>
        </p:nvPicPr>
        <p:blipFill>
          <a:blip r:embed="rId1"/>
          <a:stretch/>
        </p:blipFill>
        <p:spPr>
          <a:xfrm>
            <a:off x="1397160" y="1484280"/>
            <a:ext cx="634968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Mesure de la circonférence de la ter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My Documents\ALEX\2nde\MPS\schema circonférence terre.jpg"/>
          <p:cNvPicPr/>
          <p:nvPr/>
        </p:nvPicPr>
        <p:blipFill>
          <a:blip r:embed="rId1"/>
          <a:stretch/>
        </p:blipFill>
        <p:spPr>
          <a:xfrm>
            <a:off x="1547640" y="1703520"/>
            <a:ext cx="6048720" cy="4532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132000" y="2492280"/>
            <a:ext cx="3456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Calibri"/>
              </a:rPr>
              <a:t>II) Le mèt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http://2.bp.blogspot.com/_De9Pw0JMDCA/S8tCkqjyFCI/AAAAAAAAAow/ef_2_-zQssc/s1600/Project3.jpg"/>
          <p:cNvPicPr/>
          <p:nvPr/>
        </p:nvPicPr>
        <p:blipFill>
          <a:blip r:embed="rId2"/>
          <a:stretch/>
        </p:blipFill>
        <p:spPr>
          <a:xfrm>
            <a:off x="826920" y="1916280"/>
            <a:ext cx="4392720" cy="427644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4"/>
          <p:cNvSpPr/>
          <p:nvPr/>
        </p:nvSpPr>
        <p:spPr>
          <a:xfrm>
            <a:off x="5796000" y="2924280"/>
            <a:ext cx="25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Marcus Vitruvius Poll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88529E-007 L 2.77778E-007 -0.29371 E">
                                      <p:cBhvr>
                                        <p:cTn id="2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2920" y="2924280"/>
            <a:ext cx="396108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sidonius d’Apamée (-135/-5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upload.wikimedia.org/wikipedia/commons/thumb/6/64/Posidonio_de_Apamea.jpg/200px-Posidonio_de_Apamea.jpg"/>
          <p:cNvPicPr/>
          <p:nvPr/>
        </p:nvPicPr>
        <p:blipFill>
          <a:blip r:embed="rId2"/>
          <a:stretch/>
        </p:blipFill>
        <p:spPr>
          <a:xfrm>
            <a:off x="1187280" y="1125360"/>
            <a:ext cx="3106800" cy="475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III) Le sex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My Documents\ALEX\2nde\MPS\Sextant.jpg"/>
          <p:cNvPicPr/>
          <p:nvPr/>
        </p:nvPicPr>
        <p:blipFill>
          <a:blip r:embed="rId2"/>
          <a:stretch/>
        </p:blipFill>
        <p:spPr>
          <a:xfrm>
            <a:off x="1262160" y="1341360"/>
            <a:ext cx="661968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John Hadley (1682 – 174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D:\My Documents\ALEX\2nde\MPS\john_hadley.jpg"/>
          <p:cNvPicPr/>
          <p:nvPr/>
        </p:nvPicPr>
        <p:blipFill>
          <a:blip r:embed="rId2"/>
          <a:stretch/>
        </p:blipFill>
        <p:spPr>
          <a:xfrm>
            <a:off x="2592360" y="1557360"/>
            <a:ext cx="3959280" cy="485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09:30:41Z</dcterms:created>
  <dc:creator>Alex</dc:creator>
  <dc:description/>
  <dc:language>en-US</dc:language>
  <cp:lastModifiedBy>Alex</cp:lastModifiedBy>
  <dcterms:modified xsi:type="dcterms:W3CDTF">2012-01-14T16:38:20Z</dcterms:modified>
  <cp:revision>19</cp:revision>
  <dc:subject/>
  <dc:title>Cartographie d’Hier</dc:title>
</cp:coreProperties>
</file>